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156C-1BDD-4844-92F7-E9DC590D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3811-EC4A-4711-AD7D-1600A235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1B52-38FB-45CC-A890-61835EBB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B614-AE76-43F9-AFFD-958C233D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3344-09C0-44D1-BA70-C8588FE9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3498-DAB7-4D5D-BA50-E59970D9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2503-69F6-42C0-9941-58DBC07F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AE6E-E258-45B4-8DA4-9659E236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BF1B-082C-4986-9610-11B8C12B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387A-CB00-4350-97A7-91D754F7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4FBF-2844-46A8-A3DA-8B7B8955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E340-7908-4E7B-9E08-6AA24E28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4910-C79F-476C-9CA9-7D4FB07A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D1FC-FEF6-437B-9F94-7A7DCB44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A872-4B11-4408-9AC3-8AD5C901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8391-977E-45D4-BEA2-E4A9C5F38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5934-6F24-4A89-91CA-2125F1E1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B7F4-9EF4-4F93-8AED-97CB229C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34C-1709-400E-B797-5938462E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6DC5-BCC6-4ACF-BF87-32C040DD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9CAB-291B-4B80-BDCF-5B9D9C09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84F4-2235-403C-BDDA-86C8A4AE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D9B-0E0C-4BF9-9B93-0D4E9A81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886B-CAAC-4D63-A36C-85EC3CD4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7D3B-881F-455B-BCF0-1D2BADC3A6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D35D-02A3-40B3-9B42-93E279EDE49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iopackages.net/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packages.n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ing System Packages for Bioinforma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en D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5.05.1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696080" y="609588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705720" y="6095880"/>
            <a:ext cx="838080" cy="615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439120" y="6095880"/>
            <a:ext cx="5526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availabl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ee primary fo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a se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brow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xtpres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LAT daem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CBI Toolkit (BLAST, etc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MM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availabl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oper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 &amp; Bioconduc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qui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M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availabl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ta se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ome &amp; protein sequ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quence featu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tolog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installed using a common directory struc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availabl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CSC tools (utilities, BLAT system service, CGI script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ioper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 / Bioconduc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MOD apps (Gbrowse, Textpresso, …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ta packag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ome sequence (fa, nib, blastdb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ome features (Affy probeset alignments, mRNA, etc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MOD Components Availab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38098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-H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380988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brow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38098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pr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1905120"/>
            <a:ext cx="1905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od-web-H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3809880"/>
            <a:ext cx="10670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urn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2" idx="2"/>
            <a:endCxn id="143" idx="0"/>
          </p:cNvCxnSpPr>
          <p:nvPr/>
        </p:nvCxnSpPr>
        <p:spPr>
          <a:xfrm>
            <a:off x="4533480" y="2361960"/>
            <a:ext cx="2096280" cy="144828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2" idx="2"/>
            <a:endCxn id="141" idx="0"/>
          </p:cNvCxnSpPr>
          <p:nvPr/>
        </p:nvCxnSpPr>
        <p:spPr>
          <a:xfrm>
            <a:off x="4533480" y="2361960"/>
            <a:ext cx="72468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2" idx="2"/>
            <a:endCxn id="140" idx="0"/>
          </p:cNvCxnSpPr>
          <p:nvPr/>
        </p:nvCxnSpPr>
        <p:spPr>
          <a:xfrm flipH="1">
            <a:off x="3847320" y="2361960"/>
            <a:ext cx="68652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2" idx="2"/>
            <a:endCxn id="139" idx="0"/>
          </p:cNvCxnSpPr>
          <p:nvPr/>
        </p:nvCxnSpPr>
        <p:spPr>
          <a:xfrm flipH="1">
            <a:off x="2437560" y="2361960"/>
            <a:ext cx="209628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1981080" y="449568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39" idx="2"/>
            <a:endCxn id="148" idx="0"/>
          </p:cNvCxnSpPr>
          <p:nvPr/>
        </p:nvCxnSpPr>
        <p:spPr>
          <a:xfrm>
            <a:off x="2437920" y="4266720"/>
            <a:ext cx="1080" cy="2293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grpSp>
        <p:nvGrpSpPr>
          <p:cNvPr id="150" name=""/>
          <p:cNvGrpSpPr/>
          <p:nvPr/>
        </p:nvGrpSpPr>
        <p:grpSpPr>
          <a:xfrm>
            <a:off x="1752480" y="1905120"/>
            <a:ext cx="6019920" cy="1904760"/>
            <a:chOff x="1752480" y="1905120"/>
            <a:chExt cx="6019920" cy="1904760"/>
          </a:xfrm>
        </p:grpSpPr>
        <p:sp>
          <p:nvSpPr>
            <p:cNvPr id="151" name=""/>
            <p:cNvSpPr/>
            <p:nvPr/>
          </p:nvSpPr>
          <p:spPr>
            <a:xfrm>
              <a:off x="1752480" y="1905120"/>
              <a:ext cx="13716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as2-H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" name=""/>
            <p:cNvCxnSpPr>
              <a:stCxn id="151" idx="2"/>
              <a:endCxn id="139" idx="0"/>
            </p:cNvCxnSpPr>
            <p:nvPr/>
          </p:nvCxnSpPr>
          <p:spPr>
            <a:xfrm>
              <a:off x="2437920" y="2361960"/>
              <a:ext cx="1080" cy="14482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sp>
          <p:nvSpPr>
            <p:cNvPr id="153" name=""/>
            <p:cNvSpPr/>
            <p:nvPr/>
          </p:nvSpPr>
          <p:spPr>
            <a:xfrm>
              <a:off x="6400800" y="2514600"/>
              <a:ext cx="13716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pollo-H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304812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map-H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" name=""/>
            <p:cNvCxnSpPr>
              <a:stCxn id="142" idx="2"/>
              <a:endCxn id="154" idx="1"/>
            </p:cNvCxnSpPr>
            <p:nvPr/>
          </p:nvCxnSpPr>
          <p:spPr>
            <a:xfrm>
              <a:off x="4533840" y="2362320"/>
              <a:ext cx="1867680" cy="91512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42" idx="2"/>
              <a:endCxn id="153" idx="1"/>
            </p:cNvCxnSpPr>
            <p:nvPr/>
          </p:nvCxnSpPr>
          <p:spPr>
            <a:xfrm>
              <a:off x="4533840" y="2362320"/>
              <a:ext cx="1867680" cy="38160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54" idx="1"/>
              <a:endCxn id="139" idx="0"/>
            </p:cNvCxnSpPr>
            <p:nvPr/>
          </p:nvCxnSpPr>
          <p:spPr>
            <a:xfrm flipH="1">
              <a:off x="2437560" y="3276360"/>
              <a:ext cx="3963240" cy="5338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158" name=""/>
            <p:cNvCxnSpPr>
              <a:stCxn id="153" idx="1"/>
              <a:endCxn id="139" idx="0"/>
            </p:cNvCxnSpPr>
            <p:nvPr/>
          </p:nvCxnSpPr>
          <p:spPr>
            <a:xfrm flipH="1">
              <a:off x="2437560" y="2742840"/>
              <a:ext cx="3963240" cy="106740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  <p:sp>
        <p:nvSpPr>
          <p:cNvPr id="159" name=""/>
          <p:cNvSpPr/>
          <p:nvPr/>
        </p:nvSpPr>
        <p:spPr>
          <a:xfrm>
            <a:off x="609480" y="5383080"/>
            <a:ext cx="792504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sa’ can be substituted for your 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ly built for ‘Cel’, ‘Hsa’, ‘Sc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429000" y="2362320"/>
            <a:ext cx="3581280" cy="2590560"/>
            <a:chOff x="3429000" y="2362320"/>
            <a:chExt cx="3581280" cy="2590560"/>
          </a:xfrm>
        </p:grpSpPr>
        <p:sp>
          <p:nvSpPr>
            <p:cNvPr id="161" name=""/>
            <p:cNvSpPr/>
            <p:nvPr/>
          </p:nvSpPr>
          <p:spPr>
            <a:xfrm>
              <a:off x="5638680" y="4495680"/>
              <a:ext cx="13716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ucsc-BL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4495680"/>
              <a:ext cx="20574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enome-Hsa-ni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"/>
            <p:cNvCxnSpPr>
              <a:stCxn id="142" idx="2"/>
              <a:endCxn id="161" idx="0"/>
            </p:cNvCxnSpPr>
            <p:nvPr/>
          </p:nvCxnSpPr>
          <p:spPr>
            <a:xfrm>
              <a:off x="4533840" y="2362320"/>
              <a:ext cx="1791360" cy="21340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42" idx="2"/>
              <a:endCxn id="162" idx="0"/>
            </p:cNvCxnSpPr>
            <p:nvPr/>
          </p:nvCxnSpPr>
          <p:spPr>
            <a:xfrm flipH="1">
              <a:off x="4457160" y="2362320"/>
              <a:ext cx="76680" cy="21340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re details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30481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6" idx="2"/>
            <a:endCxn id="168" idx="0"/>
          </p:cNvCxnSpPr>
          <p:nvPr/>
        </p:nvCxnSpPr>
        <p:spPr>
          <a:xfrm flipH="1">
            <a:off x="3085560" y="3505320"/>
            <a:ext cx="191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2438280" y="19051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-H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4343400"/>
            <a:ext cx="2057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n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69" idx="2"/>
            <a:endCxn id="166" idx="0"/>
          </p:cNvCxnSpPr>
          <p:nvPr/>
        </p:nvCxnSpPr>
        <p:spPr>
          <a:xfrm>
            <a:off x="3124080" y="2361960"/>
            <a:ext cx="1533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9" idx="2"/>
            <a:endCxn id="170" idx="0"/>
          </p:cNvCxnSpPr>
          <p:nvPr/>
        </p:nvCxnSpPr>
        <p:spPr>
          <a:xfrm>
            <a:off x="3123720" y="2361960"/>
            <a:ext cx="2629800" cy="19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693432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csc-b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5" idx="2"/>
            <a:endCxn id="173" idx="0"/>
          </p:cNvCxnSpPr>
          <p:nvPr/>
        </p:nvCxnSpPr>
        <p:spPr>
          <a:xfrm>
            <a:off x="6057720" y="2971800"/>
            <a:ext cx="1524600" cy="1372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3505320" y="373392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l-go-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"/>
          <p:cNvCxnSpPr>
            <a:stCxn id="166" idx="2"/>
            <a:endCxn id="176" idx="0"/>
          </p:cNvCxnSpPr>
          <p:nvPr/>
        </p:nvCxnSpPr>
        <p:spPr>
          <a:xfrm>
            <a:off x="3276360" y="3504960"/>
            <a:ext cx="1028880" cy="2293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3962520" y="2514600"/>
            <a:ext cx="4190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annotation-affyme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5" idx="2"/>
            <a:endCxn id="170" idx="0"/>
          </p:cNvCxnSpPr>
          <p:nvPr/>
        </p:nvCxnSpPr>
        <p:spPr>
          <a:xfrm flipH="1">
            <a:off x="5752440" y="2971800"/>
            <a:ext cx="305640" cy="1372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69" idx="3"/>
            <a:endCxn id="175" idx="0"/>
          </p:cNvCxnSpPr>
          <p:nvPr/>
        </p:nvCxnSpPr>
        <p:spPr>
          <a:xfrm>
            <a:off x="3809520" y="2133720"/>
            <a:ext cx="2248920" cy="3816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5334120" y="1905120"/>
            <a:ext cx="3581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annotation-g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"/>
          <p:cNvCxnSpPr>
            <a:stCxn id="169" idx="3"/>
            <a:endCxn id="180" idx="1"/>
          </p:cNvCxnSpPr>
          <p:nvPr/>
        </p:nvCxnSpPr>
        <p:spPr>
          <a:xfrm>
            <a:off x="3809880" y="2133360"/>
            <a:ext cx="152496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228600" y="3048120"/>
            <a:ext cx="2438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gresql-AffxS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69" idx="2"/>
            <a:endCxn id="182" idx="0"/>
          </p:cNvCxnSpPr>
          <p:nvPr/>
        </p:nvCxnSpPr>
        <p:spPr>
          <a:xfrm flipH="1">
            <a:off x="1447560" y="2361960"/>
            <a:ext cx="16768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1981080" y="4343400"/>
            <a:ext cx="22100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gresql-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40384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l-bio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66" idx="2"/>
            <a:endCxn id="184" idx="0"/>
          </p:cNvCxnSpPr>
          <p:nvPr/>
        </p:nvCxnSpPr>
        <p:spPr>
          <a:xfrm flipH="1">
            <a:off x="1028520" y="3504960"/>
            <a:ext cx="22485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2819520" y="54100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3" idx="2"/>
            <a:endCxn id="188" idx="0"/>
          </p:cNvCxnSpPr>
          <p:nvPr/>
        </p:nvCxnSpPr>
        <p:spPr>
          <a:xfrm>
            <a:off x="7581600" y="48002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70" idx="2"/>
            <a:endCxn id="190" idx="0"/>
          </p:cNvCxnSpPr>
          <p:nvPr/>
        </p:nvCxnSpPr>
        <p:spPr>
          <a:xfrm>
            <a:off x="5752800" y="48002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68" idx="2"/>
            <a:endCxn id="186" idx="0"/>
          </p:cNvCxnSpPr>
          <p:nvPr/>
        </p:nvCxnSpPr>
        <p:spPr>
          <a:xfrm>
            <a:off x="3085920" y="48002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4" idx="2"/>
            <a:endCxn id="193" idx="0"/>
          </p:cNvCxnSpPr>
          <p:nvPr/>
        </p:nvCxnSpPr>
        <p:spPr>
          <a:xfrm>
            <a:off x="1028520" y="44956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762120" y="54100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541008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86400" y="541008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541008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76" idx="2"/>
            <a:endCxn id="194" idx="0"/>
          </p:cNvCxnSpPr>
          <p:nvPr/>
        </p:nvCxnSpPr>
        <p:spPr>
          <a:xfrm>
            <a:off x="4304880" y="4191120"/>
            <a:ext cx="108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ne Expression Compon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46483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-H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ocon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4648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43440" y="3390840"/>
            <a:ext cx="1600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nt/N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p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8" idx="1"/>
            <a:endCxn id="199" idx="3"/>
          </p:cNvCxnSpPr>
          <p:nvPr/>
        </p:nvCxnSpPr>
        <p:spPr>
          <a:xfrm flipH="1">
            <a:off x="5333760" y="487656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200" idx="2"/>
            <a:endCxn id="198" idx="0"/>
          </p:cNvCxnSpPr>
          <p:nvPr/>
        </p:nvCxnSpPr>
        <p:spPr>
          <a:xfrm>
            <a:off x="6543720" y="4152960"/>
            <a:ext cx="1008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3048120" y="353376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-G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203" idx="2"/>
            <a:endCxn id="197" idx="0"/>
          </p:cNvCxnSpPr>
          <p:nvPr/>
        </p:nvCxnSpPr>
        <p:spPr>
          <a:xfrm>
            <a:off x="3733560" y="3990960"/>
            <a:ext cx="1080" cy="65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203" idx="3"/>
            <a:endCxn id="200" idx="1"/>
          </p:cNvCxnSpPr>
          <p:nvPr/>
        </p:nvCxnSpPr>
        <p:spPr>
          <a:xfrm>
            <a:off x="4419360" y="3762000"/>
            <a:ext cx="132444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2924280" y="1828800"/>
            <a:ext cx="16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S/2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typi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eC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206" idx="2"/>
            <a:endCxn id="203" idx="0"/>
          </p:cNvCxnSpPr>
          <p:nvPr/>
        </p:nvCxnSpPr>
        <p:spPr>
          <a:xfrm>
            <a:off x="3723840" y="2971440"/>
            <a:ext cx="10440" cy="5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97" idx="2"/>
          </p:cNvCxnSpPr>
          <p:nvPr/>
        </p:nvCxnSpPr>
        <p:spPr>
          <a:xfrm>
            <a:off x="3733560" y="5105160"/>
            <a:ext cx="108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197" idx="2"/>
          </p:cNvCxnSpPr>
          <p:nvPr/>
        </p:nvCxnSpPr>
        <p:spPr>
          <a:xfrm flipH="1">
            <a:off x="3123720" y="5105160"/>
            <a:ext cx="61056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197" idx="2"/>
          </p:cNvCxnSpPr>
          <p:nvPr/>
        </p:nvCxnSpPr>
        <p:spPr>
          <a:xfrm>
            <a:off x="3733560" y="5105520"/>
            <a:ext cx="611640" cy="141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biopackages.n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~1000 RPMs for Fedora Core 2, 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le via yu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ee site for a configuration exampl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O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pport more architec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ild for Cygwin &amp; OS X.  RPM has been ported to bot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mate package build pro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ild farm of multiple architectures, controllable via scheduler (GridEng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mate (if possible) inclusion of new software / data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is a packag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ftware, config files, documentation, and/or data encapsulated in a single fi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tadata describ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sion, license, package “category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endenc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the package provi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O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 community interest and involve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ep adding more packages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ep existing packages curren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knowledge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trick Alg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ared Fo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rian O’Conn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dd Harr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coln Ste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nley Nels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atomy of a specfi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pen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d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lo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ild &amp; install script hoo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pre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buil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instal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po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preu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MOD target audi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mall MO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ckage Dependency Grap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endenc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the package provi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0481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6" idx="2"/>
            <a:endCxn id="98" idx="0"/>
          </p:cNvCxnSpPr>
          <p:nvPr/>
        </p:nvCxnSpPr>
        <p:spPr>
          <a:xfrm flipH="1">
            <a:off x="2704680" y="3505320"/>
            <a:ext cx="5724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2438280" y="19051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-H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4343400"/>
            <a:ext cx="2057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n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9" idx="2"/>
            <a:endCxn id="96" idx="0"/>
          </p:cNvCxnSpPr>
          <p:nvPr/>
        </p:nvCxnSpPr>
        <p:spPr>
          <a:xfrm>
            <a:off x="3124080" y="2361960"/>
            <a:ext cx="1533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9" idx="2"/>
            <a:endCxn id="100" idx="0"/>
          </p:cNvCxnSpPr>
          <p:nvPr/>
        </p:nvCxnSpPr>
        <p:spPr>
          <a:xfrm>
            <a:off x="3123720" y="2361960"/>
            <a:ext cx="2629800" cy="19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693432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csc-b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2"/>
            <a:endCxn id="103" idx="0"/>
          </p:cNvCxnSpPr>
          <p:nvPr/>
        </p:nvCxnSpPr>
        <p:spPr>
          <a:xfrm>
            <a:off x="6057720" y="2971800"/>
            <a:ext cx="1524600" cy="1372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6" idx="2"/>
            <a:endCxn id="107" idx="0"/>
          </p:cNvCxnSpPr>
          <p:nvPr/>
        </p:nvCxnSpPr>
        <p:spPr>
          <a:xfrm>
            <a:off x="3276360" y="3504960"/>
            <a:ext cx="724680" cy="2293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3962520" y="2514600"/>
            <a:ext cx="4190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annotation-affyme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105" idx="2"/>
            <a:endCxn id="100" idx="0"/>
          </p:cNvCxnSpPr>
          <p:nvPr/>
        </p:nvCxnSpPr>
        <p:spPr>
          <a:xfrm flipH="1">
            <a:off x="5752440" y="2971800"/>
            <a:ext cx="305640" cy="1372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9" idx="3"/>
            <a:endCxn id="105" idx="0"/>
          </p:cNvCxnSpPr>
          <p:nvPr/>
        </p:nvCxnSpPr>
        <p:spPr>
          <a:xfrm>
            <a:off x="3809520" y="2133720"/>
            <a:ext cx="2248920" cy="3816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5334120" y="1905120"/>
            <a:ext cx="3581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annotation-g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99" idx="3"/>
            <a:endCxn id="110" idx="1"/>
          </p:cNvCxnSpPr>
          <p:nvPr/>
        </p:nvCxnSpPr>
        <p:spPr>
          <a:xfrm>
            <a:off x="3809880" y="2133360"/>
            <a:ext cx="152496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228600" y="2514600"/>
            <a:ext cx="2438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gresql-AffxS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99" idx="2"/>
            <a:endCxn id="112" idx="0"/>
          </p:cNvCxnSpPr>
          <p:nvPr/>
        </p:nvCxnSpPr>
        <p:spPr>
          <a:xfrm flipH="1">
            <a:off x="1447560" y="2361960"/>
            <a:ext cx="16768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600200" y="4343400"/>
            <a:ext cx="2209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gresql-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373392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l-bio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96" idx="2"/>
            <a:endCxn id="114" idx="0"/>
          </p:cNvCxnSpPr>
          <p:nvPr/>
        </p:nvCxnSpPr>
        <p:spPr>
          <a:xfrm flipH="1">
            <a:off x="1256760" y="3504960"/>
            <a:ext cx="20199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4114800" y="487692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o-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96" idx="2"/>
            <a:endCxn id="116" idx="0"/>
          </p:cNvCxnSpPr>
          <p:nvPr/>
        </p:nvCxnSpPr>
        <p:spPr>
          <a:xfrm>
            <a:off x="3276360" y="3505320"/>
            <a:ext cx="14482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200400" y="373392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l-go-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pendenc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 Dependen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ation Dependen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is a Package Manager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ols to manage installation, upgrade, uninstallation of packag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ify package integrity (checksum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intain system integr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ransactiona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low rollback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endency check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endency graph recur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ow software customization (patch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urrent Generation of P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P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pk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p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mer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gz/bz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ndows Install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y bioinformatics package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ency of installation pro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ioinfo. package installs vary wildly, and commonly lack document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matic dependency install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rl modules especially bad – bioperl has 60+ modules in its dependency tre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grity/Auditing of system st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 an installed package works, which version, how to replicate system set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ighter integration with operating syst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aemons, config &amp; log file location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availabl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PM packages only right no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imary focus on Fedora Core 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me RPMs also available f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edora Core 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dHat 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ygw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1:13:05Z</dcterms:created>
  <dc:creator>aday</dc:creator>
  <dc:description/>
  <dc:language>en-US</dc:language>
  <cp:lastModifiedBy>Scott Cain</cp:lastModifiedBy>
  <dcterms:modified xsi:type="dcterms:W3CDTF">2005-05-17T21:40:32Z</dcterms:modified>
  <cp:revision>37</cp:revision>
  <dc:subject/>
  <dc:title>Slide 1</dc:title>
</cp:coreProperties>
</file>